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EB5FD-E296-4990-85D6-2B0BFA256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8ABEE-8677-4F42-8CC0-FCD214B00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393C5-23AA-48A1-AA79-19D88AA11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CCBE1-9D46-4615-B008-ABBCCFA41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E108F-4905-46F9-98DA-8934FF327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9667F-618C-4ED8-9DA1-7361137A2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277A9-86A9-4F90-A2CD-34BFEDB73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77B61-A741-443D-BCCF-888F864B1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48ABE-F4DE-4FD9-A8DD-32B8DAC3F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38600-6DCA-4D61-A94F-BA72522C7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A2429-6820-46B2-A11C-F0483E90E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BB729-7173-4BB9-898B-60C51AAD2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43db"/>
            </a:gs>
            <a:gs pos="50000">
              <a:srgbClr val="0cdef4"/>
            </a:gs>
            <a:gs pos="100000">
              <a:srgbClr val="ff43db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827C6-52FF-4451-AB8E-BD6376DAEE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freeplaymusic.com/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eb.mit.edu/invent/iow/cartwright.html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43db"/>
            </a:gs>
            <a:gs pos="50000">
              <a:srgbClr val="0cdef4"/>
            </a:gs>
            <a:gs pos="100000">
              <a:srgbClr val="ff43db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238880" y="5105520"/>
            <a:ext cx="167652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lly W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-22-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.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990720" y="990720"/>
            <a:ext cx="6933960" cy="49528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53c9f3"/>
                    </a:gs>
                    <a:gs pos="100000">
                      <a:srgbClr val="fefefe"/>
                    </a:gs>
                  </a:gsLst>
                  <a:lin ang="5400000"/>
                </a:gradFill>
                <a:latin typeface="Arial Black"/>
              </a:rPr>
              <a:t>Baseball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53c9f3"/>
                  </a:gs>
                  <a:gs pos="100000">
                    <a:srgbClr val="fefefe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733920" y="62485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28600" y="5410080"/>
            <a:ext cx="46483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sic: Free Play Music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rmy Ang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3/3/11,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freeplaymusic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43db"/>
            </a:gs>
            <a:gs pos="50000">
              <a:srgbClr val="0cdef4"/>
            </a:gs>
            <a:gs pos="100000">
              <a:srgbClr val="ff43db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Cartwright"/>
          <p:cNvPicPr/>
          <p:nvPr/>
        </p:nvPicPr>
        <p:blipFill>
          <a:blip r:embed="rId1"/>
          <a:srcRect l="4073" t="0" r="78971" b="0"/>
          <a:stretch/>
        </p:blipFill>
        <p:spPr>
          <a:xfrm>
            <a:off x="5334120" y="2438280"/>
            <a:ext cx="2666880" cy="41148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04920" y="3429000"/>
            <a:ext cx="449568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melson MIT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Cartwrigh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2/28/11,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eb.mit.edu/invent/iow/cartwright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Cartwright"/>
          <p:cNvPicPr/>
          <p:nvPr/>
        </p:nvPicPr>
        <p:blipFill>
          <a:blip r:embed="rId3"/>
          <a:srcRect l="24588" t="0" r="4913" b="16684"/>
          <a:stretch/>
        </p:blipFill>
        <p:spPr>
          <a:xfrm>
            <a:off x="1752480" y="304920"/>
            <a:ext cx="5943600" cy="188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43db"/>
            </a:gs>
            <a:gs pos="50000">
              <a:srgbClr val="0cdef4"/>
            </a:gs>
            <a:gs pos="100000">
              <a:srgbClr val="ff43db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vention: Baseb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origin of American baseball lies in an informal offshoot of the English sport cricket called “rounders,” played in the colonies as early as the mid- 18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ente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game was already called baseball in a children’s book of 1744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special commission of 1907 concluded that baseball had been “invented” by the Civil War hero Abner Doubleday in Cooperstown, New York, in 1839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 it was Alexander Cartwright who established the modern baseball field in 184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ival National (1876) and American (1903) Leagues competed in the fist World Series in 1903 and All-Star Games in 1933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game was won by the first team to score 21 ru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43db"/>
            </a:gs>
            <a:gs pos="50000">
              <a:srgbClr val="0cdef4"/>
            </a:gs>
            <a:gs pos="100000">
              <a:srgbClr val="ff43db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ventor: Alexander Cartwrigh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exander Joy Cartwright (1820-189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exander Cartwright established the modern baseball field in 1845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exander Cartwright lived in New Yo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his rules plugging was allow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2T18:34:07Z</dcterms:created>
  <dc:creator>install</dc:creator>
  <dc:description/>
  <dc:language>en-US</dc:language>
  <cp:lastModifiedBy>install</cp:lastModifiedBy>
  <dcterms:modified xsi:type="dcterms:W3CDTF">2011-03-11T18:32:17Z</dcterms:modified>
  <cp:revision>13</cp:revision>
  <dc:subject/>
  <dc:title>Slide 1</dc:title>
</cp:coreProperties>
</file>